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814-9EC9-4211-BEEC-278C33A1A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AD0-F571-4A5B-A643-C28C3E46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F45A-7110-4981-A97E-E3C2E363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A058-48CE-408C-950B-BF792898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E123-B1C3-402E-8CEB-5D073BB5F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740-1DCB-4E2B-A830-E96A4938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4487-0E0C-4FA2-878D-F173DA55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227-436B-439D-B46E-C147ABAC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56B-2AD3-40EC-AEEC-2F233E7A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A35-9974-4F58-B47D-D92AA28C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720-15F6-488A-BAF9-04A529C7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8D85-2FD5-4711-9951-37C80D0B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380B-9C25-4BA7-BABB-ECD227A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3AA1-75D9-400E-BF9F-3798CEA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39CB-6694-451F-8CA1-FBB3B0D1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3A8-D063-42C5-B4F6-E9C7246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966-7924-4835-AFA7-0306BDEC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6FDE-8F7B-49F2-8597-A91DDFE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8A2-FC66-40F7-8DB5-6F42853C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3BD3-FBD4-4637-9DEB-3A16B71B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3951-EB76-459D-9846-EE15C9F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0F58-3568-4FD4-9BEF-D71F347E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6EF0-C2D5-4E86-B024-8A6BAD3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28BD-2C3B-45D6-8FC0-9FE54873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BF68-FB84-4EC8-9C1F-77705F44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C6D7-FE17-4212-BEA1-EFC89E8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4F39-B960-43A9-B48C-93CE551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80C3-D838-48DE-A29C-1C0A4004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A93E-8063-4C98-9CE4-A9D304C3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473-F591-46AC-8792-342D1FE1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A1213-6FB4-4242-B119-1080BA2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BA05-0913-4C41-A67E-7133FD7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BA85-2913-4EE9-80DA-AFF9506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866D-6A8F-4065-AAA7-1F043110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61A3-397C-4A59-8DCD-27D100D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95A6-59C6-44DA-A0A3-6122D9D8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16F1-3E0C-4FB5-B437-F135EDDD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BD215-9F25-4EC7-B569-6C532A1B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0C230-6933-4368-BD72-8B099A8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BEC9C-E94E-4286-9167-DA880DB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D34-265E-4237-BE35-0078A0EA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BD7F7-1CF5-4AB8-8E96-1C64432D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E4875-B595-418A-A2D0-0AC9CB2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7F0ED-F19E-41E5-9CD7-2FAFBA6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F0F3D-2B49-4A6D-8F9B-4DDBA5B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A29E8-845C-47A6-B1CD-BF50593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B36F8-7948-4CF3-96E3-3D05503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82C96-45ED-4BC5-A5BE-2642EBF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ED769-FB5D-43D3-BDB8-43303478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1F01F-D407-43A2-9CBA-1D83BF28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3330F-817A-473D-AB62-8EE4ADA8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ABD-68A8-43BB-A32C-8AF8BB8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C357-6574-415B-82DE-6AC365C8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09919-7D97-42B6-B958-DCF23866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7BB8-CA06-481D-A467-9BBF21F7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8320-CD41-4B06-8076-35FDB687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8040-F941-48EC-8081-327A092E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3710D-4402-447A-8E9B-B5771801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4D48-8CE0-4AA2-A719-147F5282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77E1-1BCC-46C5-BDE0-E231325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998E-7529-42F6-90D8-88933877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2567-A07C-4796-BC30-3219C99C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1E7-98FA-439C-914E-EBB93B7F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BB14-D943-4E5B-B1B0-078677A0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B00A3-77C3-4362-BB41-63AB7070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AE8E2-FB21-4763-BF19-B67AA388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F6033-5D47-4DA0-A559-D0EBCDA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39A14-2B27-475A-822D-3DBDF27C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7B6DD-DECA-4133-A1E0-311AD8D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B8FC8-9B61-4530-92F8-DA84208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295DE-831B-4FCA-B2FB-89EDB74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64EEB-25A8-460F-937A-FE596B4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08DBC-1C78-4F17-B849-152C58B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66A-93A6-489B-9C71-355A7B6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F2421-F8DC-49EB-A68F-703381B6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4B182-80AF-4ADA-8FE3-C1AB3EB9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065CA-B0EC-4AFE-840A-C34414FD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2A032-123B-4578-BFD0-AF48969D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58B76-25B3-4FC1-B6F9-B2237F6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486CF-A148-4590-9A7B-1912B1F3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C9CC5-6D3E-41F3-A211-BD9A09D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970B8-F2D8-4925-9579-D8D9A1D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02CD3-272C-495F-A1DF-657864E7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105E2-2680-4515-B7CE-1DDE887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542-311F-40E4-BFF4-1B14CBD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D8DD9-9D8E-45A9-B147-1CF4AA6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E8CD9-681D-4C46-92A3-FD0B753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C06D2-5BC5-4A55-B9C5-BD6E967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2272D-50E5-4A61-9E02-15E99A4A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95C63-5A31-4110-88FB-823A8FC1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6E3FA-F22D-42C2-9062-0149D9E5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1931C-03F5-4BF4-8CEA-5B38651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8D030-A78F-4D90-A7BF-FFC45BD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73E91-F4E2-45AA-BFFC-A263C807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68489-2C59-48CF-A646-98746EB1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E8D-350F-45F0-8CFE-EE81FA4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F2AED-09A0-4006-A181-0A09C67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190B3-15DB-427B-BF19-BD0FEE0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1A795-5AC6-4A39-8E07-C0C1E9B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CE7CC2-95A6-438D-9613-53AB0F5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D1DDD-E686-4B5F-BB33-36D44C34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54910-CF2F-49B4-B56A-1347D1ED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28B7D-343A-4F6B-BEDB-4A6E7515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0A4-F1B2-4FD4-875D-640B49C88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0B0-9259-4642-81B7-D6824FCF0A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A3E-6B1F-488C-A40C-895B084F84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A8C-E849-4BCA-9ACE-FA60B0D27B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24A5-958F-471D-A542-CFADC23327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63F2-330B-4319-A490-CA9D3B5AEB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E29-57D8-4213-A807-0F7756083E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EDE-BE16-48F9-BC13-C17F42E250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11   (5 Word Part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CR, MIC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million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h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biolog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co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fil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ohm.jpg"/>
          <p:cNvPicPr/>
          <p:nvPr/>
        </p:nvPicPr>
        <p:blipFill>
          <a:blip r:embed="rId1"/>
          <a:stretch/>
        </p:blipFill>
        <p:spPr>
          <a:xfrm>
            <a:off x="762120" y="50292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microbiology.jpg"/>
          <p:cNvPicPr/>
          <p:nvPr/>
        </p:nvPicPr>
        <p:blipFill>
          <a:blip r:embed="rId2"/>
          <a:stretch/>
        </p:blipFill>
        <p:spPr>
          <a:xfrm>
            <a:off x="685800" y="30481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microbiologyy.jpg"/>
          <p:cNvPicPr/>
          <p:nvPr/>
        </p:nvPicPr>
        <p:blipFill>
          <a:blip r:embed="rId3"/>
          <a:stretch/>
        </p:blipFill>
        <p:spPr>
          <a:xfrm>
            <a:off x="3581280" y="228600"/>
            <a:ext cx="1600200" cy="1190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microfilm.jpg"/>
          <p:cNvPicPr/>
          <p:nvPr/>
        </p:nvPicPr>
        <p:blipFill>
          <a:blip r:embed="rId4"/>
          <a:stretch/>
        </p:blipFill>
        <p:spPr>
          <a:xfrm>
            <a:off x="6172200" y="50292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micrometer.jpg"/>
          <p:cNvPicPr/>
          <p:nvPr/>
        </p:nvPicPr>
        <p:blipFill>
          <a:blip r:embed="rId5"/>
          <a:stretch/>
        </p:blipFill>
        <p:spPr>
          <a:xfrm>
            <a:off x="3505320" y="480060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microphone.jpg"/>
          <p:cNvPicPr/>
          <p:nvPr/>
        </p:nvPicPr>
        <p:blipFill>
          <a:blip r:embed="rId6"/>
          <a:stretch/>
        </p:blipFill>
        <p:spPr>
          <a:xfrm>
            <a:off x="3124080" y="3124080"/>
            <a:ext cx="145728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microscope.jpg"/>
          <p:cNvPicPr/>
          <p:nvPr/>
        </p:nvPicPr>
        <p:blipFill>
          <a:blip r:embed="rId7"/>
          <a:stretch/>
        </p:blipFill>
        <p:spPr>
          <a:xfrm>
            <a:off x="7010280" y="228600"/>
            <a:ext cx="153360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LL, MILLI, MI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llennium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niu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year or years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li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millienium.jpg"/>
          <p:cNvPicPr/>
          <p:nvPr/>
        </p:nvPicPr>
        <p:blipFill>
          <a:blip r:embed="rId1"/>
          <a:stretch/>
        </p:blipFill>
        <p:spPr>
          <a:xfrm>
            <a:off x="838080" y="2971800"/>
            <a:ext cx="1676520" cy="1733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milligram.jpg"/>
          <p:cNvPicPr/>
          <p:nvPr/>
        </p:nvPicPr>
        <p:blipFill>
          <a:blip r:embed="rId2"/>
          <a:stretch/>
        </p:blipFill>
        <p:spPr>
          <a:xfrm>
            <a:off x="4419720" y="5334120"/>
            <a:ext cx="27432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million.jpg"/>
          <p:cNvPicPr/>
          <p:nvPr/>
        </p:nvPicPr>
        <p:blipFill>
          <a:blip r:embed="rId3"/>
          <a:stretch/>
        </p:blipFill>
        <p:spPr>
          <a:xfrm>
            <a:off x="762120" y="4952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millipede.jpg"/>
          <p:cNvPicPr/>
          <p:nvPr/>
        </p:nvPicPr>
        <p:blipFill>
          <a:blip r:embed="rId4"/>
          <a:stretch/>
        </p:blipFill>
        <p:spPr>
          <a:xfrm>
            <a:off x="3200400" y="32004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millipedee.jpg"/>
          <p:cNvPicPr/>
          <p:nvPr/>
        </p:nvPicPr>
        <p:blipFill>
          <a:blip r:embed="rId5"/>
          <a:stretch/>
        </p:blipFill>
        <p:spPr>
          <a:xfrm>
            <a:off x="6553080" y="228600"/>
            <a:ext cx="18478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N, MO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l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cle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ocul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he eye or eyes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oly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poly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ny; much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la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gam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logu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theis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state; quality; condition o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monarch.jpg"/>
          <p:cNvPicPr/>
          <p:nvPr/>
        </p:nvPicPr>
        <p:blipFill>
          <a:blip r:embed="rId1"/>
          <a:stretch/>
        </p:blipFill>
        <p:spPr>
          <a:xfrm>
            <a:off x="3200400" y="3352680"/>
            <a:ext cx="1514520" cy="1447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monocle.jpg"/>
          <p:cNvPicPr/>
          <p:nvPr/>
        </p:nvPicPr>
        <p:blipFill>
          <a:blip r:embed="rId2"/>
          <a:stretch/>
        </p:blipFill>
        <p:spPr>
          <a:xfrm>
            <a:off x="7315200" y="228600"/>
            <a:ext cx="119052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monoclee.jpg"/>
          <p:cNvPicPr/>
          <p:nvPr/>
        </p:nvPicPr>
        <p:blipFill>
          <a:blip r:embed="rId3"/>
          <a:stretch/>
        </p:blipFill>
        <p:spPr>
          <a:xfrm>
            <a:off x="3657600" y="30492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monologue.jpg"/>
          <p:cNvPicPr/>
          <p:nvPr/>
        </p:nvPicPr>
        <p:blipFill>
          <a:blip r:embed="rId4"/>
          <a:stretch/>
        </p:blipFill>
        <p:spPr>
          <a:xfrm>
            <a:off x="388620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monoplane.jpg"/>
          <p:cNvPicPr/>
          <p:nvPr/>
        </p:nvPicPr>
        <p:blipFill>
          <a:blip r:embed="rId5"/>
          <a:stretch/>
        </p:blipFill>
        <p:spPr>
          <a:xfrm>
            <a:off x="1143000" y="5562720"/>
            <a:ext cx="1257480" cy="876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monopoly.jpg"/>
          <p:cNvPicPr/>
          <p:nvPr/>
        </p:nvPicPr>
        <p:blipFill>
          <a:blip r:embed="rId6"/>
          <a:stretch/>
        </p:blipFill>
        <p:spPr>
          <a:xfrm>
            <a:off x="533520" y="3276720"/>
            <a:ext cx="191448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T, MOR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di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ua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m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orte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4" descr="mortal.jpg"/>
          <p:cNvPicPr/>
          <p:nvPr/>
        </p:nvPicPr>
        <p:blipFill>
          <a:blip r:embed="rId1"/>
          <a:stretch/>
        </p:blipFill>
        <p:spPr>
          <a:xfrm>
            <a:off x="1295280" y="335268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mortuary.jpg"/>
          <p:cNvPicPr/>
          <p:nvPr/>
        </p:nvPicPr>
        <p:blipFill>
          <a:blip r:embed="rId2"/>
          <a:stretch/>
        </p:blipFill>
        <p:spPr>
          <a:xfrm>
            <a:off x="4572000" y="44197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ULT, MUL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e th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oc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lat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tude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ude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rge; consisting of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multipedd.jpg"/>
          <p:cNvPicPr/>
          <p:nvPr/>
        </p:nvPicPr>
        <p:blipFill>
          <a:blip r:embed="rId1"/>
          <a:stretch/>
        </p:blipFill>
        <p:spPr>
          <a:xfrm>
            <a:off x="3048120" y="335268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multiped.jpg"/>
          <p:cNvPicPr/>
          <p:nvPr/>
        </p:nvPicPr>
        <p:blipFill>
          <a:blip r:embed="rId2"/>
          <a:stretch/>
        </p:blipFill>
        <p:spPr>
          <a:xfrm>
            <a:off x="5791320" y="518148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multipeddd.jpg"/>
          <p:cNvPicPr/>
          <p:nvPr/>
        </p:nvPicPr>
        <p:blipFill>
          <a:blip r:embed="rId3"/>
          <a:stretch/>
        </p:blipFill>
        <p:spPr>
          <a:xfrm>
            <a:off x="990720" y="5181480"/>
            <a:ext cx="1733400" cy="1419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multiply.jpg"/>
          <p:cNvPicPr/>
          <p:nvPr/>
        </p:nvPicPr>
        <p:blipFill>
          <a:blip r:embed="rId4"/>
          <a:stretch/>
        </p:blipFill>
        <p:spPr>
          <a:xfrm>
            <a:off x="3581280" y="4876920"/>
            <a:ext cx="1514520" cy="189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multocular.jpg"/>
          <p:cNvPicPr/>
          <p:nvPr/>
        </p:nvPicPr>
        <p:blipFill>
          <a:blip r:embed="rId5"/>
          <a:stretch/>
        </p:blipFill>
        <p:spPr>
          <a:xfrm>
            <a:off x="762120" y="3352680"/>
            <a:ext cx="2133360" cy="1685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multocularr.jpg"/>
          <p:cNvPicPr/>
          <p:nvPr/>
        </p:nvPicPr>
        <p:blipFill>
          <a:blip r:embed="rId6"/>
          <a:stretch/>
        </p:blipFill>
        <p:spPr>
          <a:xfrm>
            <a:off x="6629400" y="457200"/>
            <a:ext cx="158112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3-23T17:21:41Z</dcterms:modified>
  <cp:revision>30</cp:revision>
  <dc:subject/>
  <dc:title>Roots List #1</dc:title>
</cp:coreProperties>
</file>